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1B13-2F2F-4AA2-8A36-524658D9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00B9C-EF7E-46D3-A504-175AB336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15852-24B1-4671-9068-A62D9D9B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B033-07D0-4C9F-B1CA-F7E9007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72249-11E2-4533-AF7B-C6BEF6D2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8B881-25BB-4823-95E6-708A00A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704D-05AA-4807-8FC6-E84B005C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E79DE-FDCD-4A8C-B6F7-5CE32707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259CD-7265-4EEB-8814-CA7DC959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2E4C4-35E1-4C8D-AD1E-C2E7D88C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64C5D-9F7C-467A-AB16-7D74B8C5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5DE48-EE77-4747-844F-78DFD52D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542E8-A8B8-4A26-B21A-86216D30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438A9-2B5C-4DEB-80C7-7ACAB33D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9D9BB-EE4C-42B2-B8B3-E7A54079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E2E64-9A55-4ECA-B298-1E2AF62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6FE54-56BF-40E9-B0B6-B27CE3B4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3633B-B3FC-4AFF-A711-E2AD495E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CBDCF-2FE8-47CA-9073-69A2E5A5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E2845-9B6F-4AE1-ADD6-570B573B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A722D-8EBE-439B-AAED-8F3E11DC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9FEDD-87B9-43C1-AD81-0A07727E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07DDB-1695-460B-B4B0-9BC45B7E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7A57E-4842-490D-8603-8A581421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7A30E-5C70-4A05-A4C1-B567D7C3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21CBA-6ABC-4917-AD7D-84D7CE57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82AC2-3C7D-40DD-9E95-D6BEC8AF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21FB7-4360-4C6B-B7FC-9F25760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D68D1-36F8-46D0-A29B-C20AF9B2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4C476-2EC2-4AF5-82C8-2126798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617-210A-49EC-B2E1-E6A2782E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4251B-34EB-4C32-BBCD-894D1D3D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9CF5B-2371-4FCE-A694-389C7BBC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30E08-CBC3-46DC-A40C-7D749C5E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5E9D4-2DCC-465A-847D-856496A7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30BB6-0B3B-4C50-9DF5-08041EF5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16A3A-8289-4CBC-A68A-C48B8520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31E1E-DD20-441A-B572-69493213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FBBF3-B51B-4B77-8ED6-46B3B17F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F7E30-35DC-4F61-8CD2-ACBACA0F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D2C45-7456-4623-890C-669BD338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390-E8EF-44D1-BA76-E59E6436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9B0B6-8628-40DA-9519-9004C4AE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F20D3-BA45-4D2A-AC14-C3704662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676C4-1300-450E-9FBC-9AD38A7D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0CAC1-1833-4F02-8B43-3077826E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FCB49-499C-4770-9C33-687DFD12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16044-6AFB-419E-9DD4-DDEB4C6F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80F9A-7DAB-4026-A8A4-51BE5F27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5CB68-76A2-46D6-88A2-4F6D35D8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0C1FA-9A1A-4965-BC29-14720632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4E3E2-A262-4614-861F-6FB4926F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4F2-B4A3-4844-A71F-A4B71E6D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85C33-45EE-46A4-97BA-C1298196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C9540-3CE5-4F60-A3B1-FF5D22CB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F4208-593A-4FD5-8A46-A7CAB6E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30048-519C-42C8-98F2-EAF18323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503DC-B662-445A-98A1-4495A4EF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6CF16-F48F-47E5-AAA8-81169613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E27F9-2326-401A-914A-3FE0EA8D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E2F2E-A2E9-48A1-BB8B-08BF939D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964AA-251C-4695-9F55-F983C65B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C004E-0F8B-4DD5-A018-95A3B186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568-962E-4A8E-BCD7-D2C64112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EA675-29D1-4741-8D2C-5246C020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2D240-21DB-4402-B919-BD5D17F7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0F967-3693-4867-826A-8FC472C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55D72-BCB6-4B81-8515-6429C80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A3335-9D38-46AA-9E76-A7D31511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037E4-0F3A-4044-90E1-9D9D9D7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42199-529D-4C6B-9449-0F0011A5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C8829-9EBF-48CB-89D4-636DAE4A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F8B83-D87C-4BD8-BE88-F9F02801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91964-2818-4B74-AC28-EDE9C7C0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1D4-5343-4945-A22B-771EC461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9B118-61B1-4AE4-84C6-2605208E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4C130-3CB5-4FAD-B8F8-1076587C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46759-8A32-4D6E-96DF-82890008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A69EE-D07B-446B-AFFB-DCAE78A5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DAF94-43B8-47A8-9502-0202663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2445C-E9EE-467F-AECA-BDE4B4A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D0C26-6257-4D01-BD2C-0B4CF29A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717AC-7226-400C-80F0-CD5B0DEF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FE5A1-280E-42AB-B710-A7BE1628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AFEF9-CC2F-4781-949C-4B35A3F5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BD9-FFBD-4AEB-AD04-5FCD86AB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E58A6-8A95-4C51-83F8-D90335B1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FA96D-614E-4E7A-B262-0D42A482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B159C-8D4E-4B0C-B2D2-CCA05C9D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E9A4F-77AB-4190-AA59-5AC46140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C76A6-9BA8-44F4-B71C-D17E8852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07F66-EEBF-4163-BBBF-3E7D854D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1C0882-9656-4664-B284-0FCACE89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474EB-A4F6-4991-AC91-1ECBFA4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87130-3405-4162-8F88-1DFE3627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25298-4E06-4F21-9A79-CF6060BC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DE0-7BA2-44F0-BCF6-B9DFDBB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93FBE-B11F-4281-978B-34D875D6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04BF1-DA06-411E-992F-1C3F682F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F346A-FCEB-4D77-93C2-6566E857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51543-4E98-4E42-80D5-D81091A6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AC637-9744-49F7-9E08-58CB4777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C18E8-FEE1-4F2C-892C-251A9CE9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1FB22-D415-4DFC-8570-A5B9E935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357CD-1019-42B3-90FB-CE5A4567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0B689-899E-436A-9429-8064328E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508B5-B997-4AD1-801B-9B4AD2D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0E4-6B16-49DD-A95C-C5792584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792A4-561C-4108-BEB3-9AC2B40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C0F69-3E89-4BCD-959A-8E5B7DF1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B19F7-EB60-4CB7-9BF6-D86050B1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38112-8D90-492D-A637-D454E5FD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FA294-12BA-49FC-B649-FA10052E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38C36-49A1-44BD-89C8-E32C266A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BA0AF-5064-46F8-9C87-784A1838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8B6E7-50C4-4B9C-8726-F77304D3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84170-9946-4F65-8BAF-7102FE7A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50C20-551A-48E7-A351-661FC19F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0D6-13A9-48DE-A556-715F28B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88819-81F2-49F3-BD58-CF95CE4B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8BE19-2B8C-47F8-8FCC-CCD2560A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E45C7-3DF9-4A12-B711-41497C1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99B8B-71F7-4CE1-82D9-4689F8D6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4660A-D518-4388-9316-470CCB08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15EA0-5DBB-4461-969D-C4F96ECE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7F05A-6DD6-4565-B2D1-613E086B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E594C-B43E-420A-884E-1BB73FD4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12C01-61B5-4BFF-AF82-683AAFE9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B27AD-556B-4FDB-8999-58E80345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396-A3FC-4E0E-A87A-7640C277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A07C4-E83B-4285-BFB4-C557BCC4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9FF54-2829-4549-B656-AD0C8215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744BA-B352-4B1D-8E95-80495B27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2C0D0-46C5-4746-951D-D2B76D5F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FD734-5C35-4152-ACC5-7E1EBCC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480B3-04CD-4853-AEB8-6D9F3C86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4FB0B-4BA7-4AE6-9BAE-8EF014B2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2E2BE-9A32-4008-A44F-CFF8AE18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B21B3-EE92-4605-860B-EC512F1A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6BAF3-C332-49CB-AC89-1671A953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211-8A34-4C7F-A5AC-9D3879C5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650CC-FB29-4266-B7E1-D66C11C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D71D1-379C-4890-9D7D-35B94095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82F43B-6958-4D26-8A5E-3453889A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362D1E-613D-4374-873D-7E1741D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87DFB3-A6CE-4296-A59F-FF0F4B21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FD743F-B012-43C1-950E-E7220828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12C29C-1C07-4D4D-A172-ADB8070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2A07B-D247-405B-93CC-7B082D1F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6F472B-BA70-4A23-9FBB-D9E2DEA7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CC958-276B-418F-A8EA-2086808C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D79-B8F5-4C35-9801-28A52BA9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1309A-AAB8-4CF5-A9D9-F94F2B0F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014AFE-4D3E-417C-80B2-F006F1C2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9062E9-3949-4C03-80C2-A0C97B07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921F4-0358-471E-BC78-63A3C991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6CCA8E-E874-4D83-AC51-B11ACA40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287C6E-BA92-48A8-A61C-99254B93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1FBADE-5648-4859-90FE-FFCEC687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6EBD67-A0D4-48D9-8214-CED043A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C6201-95BD-47E5-B738-6BE4F3B6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2EB32-62F8-41D5-9EFC-5FD3A9E1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DB02-1993-4358-914A-1E656BD3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7C3AA-2CE7-409A-9E96-7BF6211D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036B99-72DD-4B47-BD3F-440808B8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44C77-EA81-47F1-ADF3-106B8BFD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D96C7-DEB1-4A2B-9170-40BDEA7B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1FB8B8-D791-422A-9A01-C1B9EB32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B26B2D-0ECB-4EC2-B8D8-C1614FAF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CF235-73AA-4F0A-A01A-088CDDF4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88B8F-5A01-4355-8465-DC1DC33D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F43D38-1AD0-4157-95E9-9BB1E35F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C101C-C956-4205-9101-90EC338C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94C3-8FDE-42FC-99E8-9873A370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D441C-35BD-4180-81BD-9A1E472E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D29B1-2ADD-48DC-899F-24C25C30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271DFD-CA8C-4A23-9DAB-D4905AB2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420D5-CCE6-4524-828A-B48179A4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43BCAC-2482-4D58-8ADF-6C8D13CF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48992-0BD2-417F-9C5D-BA8AC741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3BDE3F-77BB-4F76-BC63-DE221987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520E51-43FC-477C-AADC-05DC4B5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CDDABA-FF25-4885-BB74-6994C216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7B183C-A5BD-4011-8B54-7D98C137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A22A-EA9F-4090-82BA-E15D8976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8F6723-1831-4120-AC62-4FAFB29B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AC2768-D0CF-463B-8AF1-8250115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F9746A-096A-4CA0-BE04-CF63616A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911605-4A63-4666-B224-D36D1542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06CD2D-EF15-4B91-9B0B-C6C038AA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DDEAB8-3176-4DA2-A34D-D10BB9F8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8BFCFC-A25A-4B2C-B140-889D40B1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FE8CF-9509-45AC-B6B9-53CB7A08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1CFBED-D6EE-4498-B1CC-D30FF577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829760-0A91-4CC0-ADD0-0A50A21F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D005-A796-459D-B627-FBE3EC6C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AE808B-C50A-4439-BF17-4E234AB9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AD6353-DF21-4CC0-9154-5FBA1F72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C44E95-733F-4350-A3CA-097C3B8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30EBBC-96CD-408A-B277-1F3079A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ED14B8-76E0-4020-BD5C-4A4B3AF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9934A-2D4C-45F9-9A6C-509BFB67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2BB59-97AC-47B6-9948-443A9F35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F15CC0-0DEB-4C9F-8296-8855B994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F756DA-4E7D-4072-81F8-D996A9B1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01FBF8-8017-4A19-A1DA-05A1B7A5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3766-A4C3-41BF-8230-9CB61BAD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0C1C30-7B99-406F-AB2D-DB69801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69A99E-2082-45CA-8A2B-93C68DB3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E371AC-F3FF-4D93-9A5F-DF54B70C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21AF61-F392-4B24-87A1-F24CE16D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1EFD0B-4160-4D1A-B66C-879EC43E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DC0968-9E50-4A43-BAD5-12D2A010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8E3C4C-2498-4AB4-A3A3-CB8568D6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EB78FF-7B86-4AC6-9695-DD2FB53F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DC4AF8-B62D-4A91-B395-FCC4ED14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50D0D7-3195-41ED-8F3E-BC3CC4A4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9200-CC85-4807-96A5-F2735895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C92096-83BB-49EB-9D0D-3E513FC5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395168-519A-4F49-88CD-A872AA02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65E07B-0D3E-498C-95B5-EC33E16F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0131FD-141A-4D51-B302-7C82DED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B93F71-B895-4CB2-B7A9-FB0E892C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322BC6-B66E-42B4-99A5-86CB3FB5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5D2705-23DB-4CFA-ABA6-606FF3EA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917476-8D4C-4AE8-90BB-513369DF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53D906-6AE6-406C-BE05-4F958923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99C050-D603-4379-A83F-2D2F4478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8BD1-CD15-473B-AB1C-9CDB87A4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F34703-8DB6-40A9-8839-BEB4874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428D14-9FF2-4CFF-BC9A-551F520B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365AA7-DF9D-42D9-956C-FA7C78F3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573F38-2713-4981-83EF-FB16BDEE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FB5357-B209-4A5B-A825-F8FF3DC8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FEB4F7-1486-4EA7-B2D0-98E84846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ECC6E7-AD8E-42A5-9B16-B2807B9C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73A2FA-CE82-4826-901B-91EB251F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243D5F-937E-4F0D-96BE-2B14C75A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1402F8-E42A-45AA-9815-5AE4DDCE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C156-A900-43FF-A02E-5A9B177B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174397-5AB1-4AA0-8193-63A0386D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5B73A5-72DA-4565-BE15-E99E0D5D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D5439B-D7E5-4185-8833-B5EB03AC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6C22C7-6900-4D55-8DF8-FC135CD8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B2F61F-CBCE-4768-A17B-0BAE64E1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EFCD-78C0-4E4C-B6B6-37048C06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DE5A-4F3F-4B1E-BA90-E83711D4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60E2-8C71-482D-924B-E7642770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22DA-7CE7-421B-8285-FA7D796C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CABF-4401-4295-BA67-19327125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F75E-2DC5-4400-8F00-89BE9BC1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1AAA-8DA0-4C85-BAF3-336A22E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0E6A-D299-4796-8A9F-077544F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5D04-255C-4DC8-9718-859A98F7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3830-688F-4BBA-A12A-D9AB9422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464F-1D8E-456C-87D1-7A0BEB1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000B-F016-4D76-81AA-29E698C7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8B16-E89E-4CF9-A22E-FDEC1CC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F0F3-8DF4-41E2-80DA-C767E242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B1D2-7215-446A-9112-7F59A614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8DDC-8892-4C41-B0A6-10D68E05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37BB-E21A-4867-A285-70224956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3773-F30C-4C12-A801-40860F7A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1AF0-8EC9-4EAB-90FF-E7F1B4A5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5AD4-1752-4745-81E9-E3354FE7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9F85-1208-4CB1-8484-87DAB847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6C7E-A035-42DC-B028-6576E342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E6BC-7CF5-4583-92B2-135FA11C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CAE4-D847-4ADF-B516-E717AB3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C0E9D-2081-4A0A-A7A0-00F24615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C8A1-F9C8-4D57-A7A1-C4815D59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1E12B-A02C-4A86-97D1-4954EB84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93C1-5A5B-4B3B-8E2D-6F9D47FF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CA0A-6321-4860-B998-2FCC07EF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5677-774D-43E6-904C-CB8C9405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AB16-1A52-43A6-808C-067BFEB3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74A1-BEF6-4ECC-8432-5701A8F8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B9B6-4A07-4D43-8271-196AF695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DE02-A9E7-4364-856D-9C01D093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1C35-5DCB-4BB6-A2E5-A990967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865C-2917-4827-AFF1-B3A7DBEC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1CBCA-2294-4C14-A763-460E231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A65FA-5818-431E-BAFC-C286457B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83C36-DA55-4166-B61C-E84D5D19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E66B-6593-4823-8DCD-0589FC6C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20C1E-521C-4C4D-ACA7-2513886D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961E-F4B7-421B-BE67-10CE2153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897B-817C-4345-89CD-5EB0CC3A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E79F0-0955-4F2F-9000-478BF9A8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031E2-F4A7-4183-8C46-D811F133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11D00-F062-4909-9473-23E01052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75030-F2C5-4380-9961-2C3DC0A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4C5D-D9C3-4FE2-B2DB-BFAC18B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63177-6928-4636-B534-5B7984E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E37B-04B0-4719-9425-59549EF1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C69A3-009A-4A69-93A8-B49A0706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39322-6C38-4747-9351-836C0A90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05BBA-6A1B-4AB7-8CFA-C65076B9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D5E7C-2535-4B86-8E6A-02EAB5B8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6DF3-BB4A-437E-A05D-B12066AD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C1CA-3C50-45D8-9981-9A17CD1E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C17EC-3A28-4377-9D40-5C5D98B9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7830F-40EE-49F2-97BB-504DE94A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C03B-AEC5-4C59-BF9B-C774F8AB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794F7-26E8-4CB6-BB1A-D3D35A7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C4011-451C-4A25-96CC-03128346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9DBE6-B43D-44F8-A15E-5F7050EA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785B3-91D4-403E-B0E0-02F4897A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95DC9-75EE-45BA-9B3C-4FC27536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F1744-7590-4E21-8F7E-6DC81BBA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5C63F-DD97-441C-8BB7-37047AC3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4D5A-BAC3-4460-8B5E-D4D5F2A7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4000" cy="75420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780000" y="57240"/>
            <a:ext cx="1620720" cy="1249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7BD6-3438-493D-B641-772958B4D581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8A08-2447-4F96-8944-9B4FCEC917B6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1BFB-2244-478C-BAE9-84CE0853C083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7FA-C489-4A6D-82B0-AF905CC7AFAA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8CAB-8E66-45AE-83AE-EE8CA9C69EC5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C67D-6E2E-4036-883E-C630419108F4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F331-E484-4D88-832C-094F544FA393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48F7-A464-4B60-9201-1AC3875A94DD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A3F7-245B-4DE6-BDA7-45BFD44644D3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B47B-6695-4CE4-90EB-5FA4AEC54064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299E-DB77-451B-9CAA-2D9351660436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F5A-FC08-4572-9E23-E8A5D3B69F5E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5E4C-569E-4700-A61B-3ABCA2327892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ED28-F8B1-4714-9034-7077F943CA15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5398-A149-4564-A1B7-79CD0717ED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950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88D1-07CD-4B48-82A7-8D84A8BDACC1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C8C9-973A-405E-B577-598DA29DD42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7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12600">
            <a:solidFill>
              <a:srgbClr val="0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8" descr="CMYK-medio"/>
          <p:cNvPicPr/>
          <p:nvPr/>
        </p:nvPicPr>
        <p:blipFill>
          <a:blip r:embed="rId2"/>
          <a:stretch/>
        </p:blipFill>
        <p:spPr>
          <a:xfrm>
            <a:off x="4095720" y="115920"/>
            <a:ext cx="951120" cy="407880"/>
          </a:xfrm>
          <a:prstGeom prst="rect">
            <a:avLst/>
          </a:prstGeom>
          <a:ln w="0">
            <a:noFill/>
          </a:ln>
        </p:spPr>
      </p:pic>
      <p:sp>
        <p:nvSpPr>
          <p:cNvPr id="995" name="Rectangle 9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004b9c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656F-7944-49E9-ADF4-F4221938BFC2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DCED-842F-4DBE-A036-717F7547BFA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7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12600">
            <a:solidFill>
              <a:srgbClr val="0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8" descr="CMYK-medio"/>
          <p:cNvPicPr/>
          <p:nvPr/>
        </p:nvPicPr>
        <p:blipFill>
          <a:blip r:embed="rId2"/>
          <a:stretch/>
        </p:blipFill>
        <p:spPr>
          <a:xfrm>
            <a:off x="4095720" y="115920"/>
            <a:ext cx="951120" cy="407880"/>
          </a:xfrm>
          <a:prstGeom prst="rect">
            <a:avLst/>
          </a:prstGeom>
          <a:ln w="0">
            <a:noFill/>
          </a:ln>
        </p:spPr>
      </p:pic>
      <p:sp>
        <p:nvSpPr>
          <p:cNvPr id="1039" name="Rectangle 9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004b9c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E0DD-97DF-46D1-B26C-E1623586251E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2A98-95C4-48EF-84A9-7414F4089B6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7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12600">
            <a:solidFill>
              <a:srgbClr val="0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8" descr="CMYK-medio"/>
          <p:cNvPicPr/>
          <p:nvPr/>
        </p:nvPicPr>
        <p:blipFill>
          <a:blip r:embed="rId2"/>
          <a:stretch/>
        </p:blipFill>
        <p:spPr>
          <a:xfrm>
            <a:off x="4095720" y="115920"/>
            <a:ext cx="951120" cy="407880"/>
          </a:xfrm>
          <a:prstGeom prst="rect">
            <a:avLst/>
          </a:prstGeom>
          <a:ln w="0">
            <a:noFill/>
          </a:ln>
        </p:spPr>
      </p:pic>
      <p:sp>
        <p:nvSpPr>
          <p:cNvPr id="1083" name="Rectangle 9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004b9c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C410-14AF-4CFD-A7FB-D822A7C815C7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4908-2496-4F6E-9A12-3017676198A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7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12600">
            <a:solidFill>
              <a:srgbClr val="0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Picture 8" descr="CMYK-medio"/>
          <p:cNvPicPr/>
          <p:nvPr/>
        </p:nvPicPr>
        <p:blipFill>
          <a:blip r:embed="rId2"/>
          <a:stretch/>
        </p:blipFill>
        <p:spPr>
          <a:xfrm>
            <a:off x="4095720" y="115920"/>
            <a:ext cx="951120" cy="407880"/>
          </a:xfrm>
          <a:prstGeom prst="rect">
            <a:avLst/>
          </a:prstGeom>
          <a:ln w="0">
            <a:noFill/>
          </a:ln>
        </p:spPr>
      </p:pic>
      <p:sp>
        <p:nvSpPr>
          <p:cNvPr id="1127" name="Rectangle 9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004b9c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3"/>
          <p:cNvSpPr/>
          <p:nvPr/>
        </p:nvSpPr>
        <p:spPr>
          <a:xfrm>
            <a:off x="0" y="835200"/>
            <a:ext cx="9180360" cy="602280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Picture 6" descr=""/>
          <p:cNvPicPr/>
          <p:nvPr/>
        </p:nvPicPr>
        <p:blipFill>
          <a:blip r:embed="rId2"/>
          <a:stretch/>
        </p:blipFill>
        <p:spPr>
          <a:xfrm>
            <a:off x="4254480" y="648648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2" descr=""/>
          <p:cNvPicPr/>
          <p:nvPr/>
        </p:nvPicPr>
        <p:blipFill>
          <a:blip r:embed="rId3"/>
          <a:stretch/>
        </p:blipFill>
        <p:spPr>
          <a:xfrm>
            <a:off x="3649680" y="33480"/>
            <a:ext cx="1814400" cy="13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1206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Rectangle 3"/>
          <p:cNvSpPr/>
          <p:nvPr/>
        </p:nvSpPr>
        <p:spPr>
          <a:xfrm>
            <a:off x="0" y="835200"/>
            <a:ext cx="9180360" cy="60228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6" descr=""/>
          <p:cNvPicPr/>
          <p:nvPr/>
        </p:nvPicPr>
        <p:blipFill>
          <a:blip r:embed="rId3"/>
          <a:stretch/>
        </p:blipFill>
        <p:spPr>
          <a:xfrm>
            <a:off x="4254480" y="648648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2" descr=""/>
          <p:cNvPicPr/>
          <p:nvPr/>
        </p:nvPicPr>
        <p:blipFill>
          <a:blip r:embed="rId4"/>
          <a:stretch/>
        </p:blipFill>
        <p:spPr>
          <a:xfrm>
            <a:off x="3649680" y="3348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3C30-8FBF-47B4-B5C5-A0FDBF6BD362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1ED1-1600-4FBC-99C8-D7326F7D84CD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FB70-8A59-414C-AC0A-1B60E25755A2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845F-304E-4458-99A6-DA889B38CAFF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A141-B09B-4923-A517-22C310F0E908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2A4C-A64B-4DFF-B63F-5815901FE903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79A5-193A-42E8-AE48-35B76CF76CBD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Title 5"/>
          <p:cNvSpPr/>
          <p:nvPr/>
        </p:nvSpPr>
        <p:spPr>
          <a:xfrm>
            <a:off x="0" y="1306440"/>
            <a:ext cx="92073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uropean Innovation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ubtitle 6"/>
          <p:cNvSpPr/>
          <p:nvPr/>
        </p:nvSpPr>
        <p:spPr>
          <a:xfrm>
            <a:off x="171360" y="6059520"/>
            <a:ext cx="8910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14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rectorate General for Agriculture and Rur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ubtitle 6"/>
          <p:cNvSpPr/>
          <p:nvPr/>
        </p:nvSpPr>
        <p:spPr>
          <a:xfrm>
            <a:off x="324000" y="5621400"/>
            <a:ext cx="8758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14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an 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1" descr=""/>
          <p:cNvPicPr/>
          <p:nvPr/>
        </p:nvPicPr>
        <p:blipFill>
          <a:blip r:embed="rId1"/>
          <a:stretch/>
        </p:blipFill>
        <p:spPr>
          <a:xfrm>
            <a:off x="3014640" y="2357280"/>
            <a:ext cx="322416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Building bloc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Rural Development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operational groups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EIP network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Horizon 2020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thematic networks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multi actor projects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other research formats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High Level Steering Board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194d"/>
                </a:solidFill>
                <a:latin typeface="Verdana"/>
              </a:rPr>
              <a:t>EIP </a:t>
            </a:r>
            <a:r>
              <a:rPr b="0" lang="en-US" sz="2000" spc="-1" strike="noStrike">
                <a:solidFill>
                  <a:srgbClr val="19194d"/>
                </a:solidFill>
                <a:latin typeface="Verdana"/>
              </a:rPr>
              <a:t>≠ funding instru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Rural Develop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Guidelines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Measure fiche (Article 35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NRN event 'Networking for innovation'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18-19 March - Ghent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Programmes??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7" name="Picture 1" descr=""/>
          <p:cNvPicPr/>
          <p:nvPr/>
        </p:nvPicPr>
        <p:blipFill>
          <a:blip r:embed="rId1"/>
          <a:stretch/>
        </p:blipFill>
        <p:spPr>
          <a:xfrm>
            <a:off x="5386320" y="2087640"/>
            <a:ext cx="21668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Horizon 2020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2014 and 2015 call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http://ec.europa.eu/agriculture/eip/pdf/fact-sheet-horizon-2020_en.pdf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2015 call still tentative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Programming cycle 2016-2017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1002960"/>
            <a:ext cx="7048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529596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EIP Service Point</a:t>
            </a:r>
            <a:br>
              <a:rPr sz="2400"/>
            </a:b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Workshops Establishing </a:t>
            </a:r>
            <a:br>
              <a:rPr sz="2400"/>
            </a:b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Operational Group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04400" y="2114640"/>
            <a:ext cx="8572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64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27 Feb – Portugal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Cyprus, Greece, Malta, Portugal, Spai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25-26 March – Slovenia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Austria, Croatia, Germany, Hungary, Slovenia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2-3 April – Estonia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Denmark, Estonia, Finland, Latvia, Lithuania, Poland, Swede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May – Czech Republic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Bulgaria, Czech Republic, Ireland, Netherlands, Slovakia, United Kingdom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May – France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Belgium, France, Italy, Luxemburg, Romania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62" name="Picture 6" descr=""/>
          <p:cNvPicPr/>
          <p:nvPr/>
        </p:nvPicPr>
        <p:blipFill>
          <a:blip r:embed="rId1"/>
          <a:stretch/>
        </p:blipFill>
        <p:spPr>
          <a:xfrm>
            <a:off x="6454800" y="828720"/>
            <a:ext cx="2432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EIP Service Point</a:t>
            </a:r>
            <a:br>
              <a:rPr sz="2400"/>
            </a:b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Focus Group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o be launched in March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High Nature Value (HNV) farming profitability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Precision farming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Profitability of permanent grassland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Fertiliser efficiency – focus on open field horticultu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o be launched in the second half of 2014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Optimising yields through ecological focus areas  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Alternative/ innovative supply chains </a:t>
            </a: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IPM practices for soil disease suppression</a:t>
            </a:r>
            <a:br>
              <a:rPr sz="1600"/>
            </a:br>
            <a:r>
              <a:rPr b="0" i="1" lang="en-GB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66"/>
                </a:solidFill>
                <a:latin typeface="Verdana"/>
              </a:rPr>
              <a:t>Subscribe to newsletter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66"/>
                </a:solidFill>
                <a:latin typeface="Verdana"/>
              </a:rPr>
              <a:t>http://ec.europa.eu/agriculture/eip/newsletters/index_en.htm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65" name="Picture 6" descr=""/>
          <p:cNvPicPr/>
          <p:nvPr/>
        </p:nvPicPr>
        <p:blipFill>
          <a:blip r:embed="rId1"/>
          <a:stretch/>
        </p:blipFill>
        <p:spPr>
          <a:xfrm>
            <a:off x="6454800" y="828720"/>
            <a:ext cx="2432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EIP Service Point</a:t>
            </a:r>
            <a:br>
              <a:rPr sz="2400"/>
            </a:b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Focus Group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Existing focus groups – Follow up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Organic farming (optimising arable yields)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Protein crops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Animal husbandry (anti-biotic use in pigs)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Genetic resources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Organic matter content of Mediterranean soils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Integrated pest management (IPM) in Brassica species </a:t>
            </a: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68" name="Picture 6" descr=""/>
          <p:cNvPicPr/>
          <p:nvPr/>
        </p:nvPicPr>
        <p:blipFill>
          <a:blip r:embed="rId1"/>
          <a:stretch/>
        </p:blipFill>
        <p:spPr>
          <a:xfrm>
            <a:off x="6454800" y="828720"/>
            <a:ext cx="2432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AGRI - reorgan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52440" y="2790360"/>
            <a:ext cx="8572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Unit H5 – Research and Innovation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EIP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Horizon 2020: Societal Challenge 2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/>
          </p:nvPr>
        </p:nvSpPr>
        <p:spPr>
          <a:xfrm>
            <a:off x="610920" y="1142640"/>
            <a:ext cx="818028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More inf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Rural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http://ec.europa.eu/agriculture/eip/pdf/draft-eip-guidelines_en.pdf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(outdated)</a:t>
            </a:r>
            <a:br>
              <a:rPr sz="1600"/>
            </a:b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Horizon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http://ec.europa.eu/agriculture/eip/events/eip-research-workshop-2014_en.htm</a:t>
            </a:r>
            <a:br>
              <a:rPr sz="1600"/>
            </a:b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IP Service Poi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Verdana"/>
              </a:rPr>
              <a:t>http://ec.europa.eu/agriculture/eip/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66"/>
                </a:solidFill>
                <a:latin typeface="Verdana"/>
              </a:rPr>
              <a:t>iman.boot@ec.europa.eu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1:01:36Z</dcterms:created>
  <dc:creator>Ina Van Hoye</dc:creator>
  <dc:description/>
  <dc:language>en-US</dc:language>
  <cp:lastModifiedBy>Clemens von Doderer</cp:lastModifiedBy>
  <cp:lastPrinted>2014-02-26T08:06:25Z</cp:lastPrinted>
  <dcterms:modified xsi:type="dcterms:W3CDTF">2014-02-26T13:39:36Z</dcterms:modified>
  <cp:revision>64</cp:revision>
  <dc:subject/>
  <dc:title>PowerPoint-presentatie</dc:title>
</cp:coreProperties>
</file>